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485-CD63-4522-AC82-9EC5FAB6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D6B-18AD-4CA7-8744-C656D85A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3BD-0831-407E-8A20-008673CA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477-F275-4A8F-9737-30634DE3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85F0-2642-47E2-87BA-841A9962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8A71-94E2-4061-8255-C394AAC2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DE07-9612-4EBC-B00D-A7CB5A49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18AB-5623-41C6-A4A6-1BFB0622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615E-2C30-4A02-9E35-5E13712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18D5-A278-4BEA-A96B-FA8D768E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63F1-A800-4014-A055-1DC7259A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E0F-99EA-473A-B0BF-20D208FC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09DB-FE08-495C-9BED-BB97EC0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3D76-5731-4CD0-A231-8E7E6B4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97F1-110F-4EF2-BD21-1206431E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6D5D-C2F0-48C6-AB7A-2AF9FB4C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49AE-4DBC-46D1-80BE-6F29D8B5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0F5-1836-4467-A196-AD6EAE90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2D2-02A8-47AD-B16E-018F1E6F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5FF-D66D-4DBE-834D-375AB72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EEF-A7FB-45CC-94F5-ADFD0B9E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62C-0E1E-49EA-81EA-36BC5F14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2BA-D548-4E71-B9A5-0883227F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209-50B9-48ED-9582-656F6AC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2FCC-65FB-40D4-B561-8ECED4F1E2D1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B74A-687D-4C49-BBA0-051BC475F37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686160"/>
            <a:ext cx="687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“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Your game”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prototype of this character is A. Selkirk. Being  alone  4 years on the island, he forgot how to talk and became wild. Tell us the names of the character and his author.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782760" y="57146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49480" y="4876200"/>
            <a:ext cx="45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R. Crusoe, D. Defoe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6:04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